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482-A681-48D5-AF6A-7D2560F4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F2F-1888-4270-8059-C54533A3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25FA5-AB7D-4B6B-BFAB-8A15B9CA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DFAF0-9F44-4A1B-953D-6B3A4ADA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2934B-8625-45DE-8EFC-6D06DD29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91D89-F865-405B-A304-2E74AD83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E2A17-74E1-43C9-928F-30812E67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790B9-D27D-439E-9F6E-4D90CB9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B39CE-6B12-463E-8CAA-B568AC12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C9A1C-7D58-412E-9CD8-8A188EFC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08A94-F547-4F21-9832-4046CAE6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05852-3C45-4730-A297-CB39E177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09E-1821-476D-8244-D839BE03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0C4EC-06AC-481A-90C0-5ADFBCCF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57C3A-F397-4767-B116-7B2A321E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FED87-47A5-4D19-9777-BD6554F2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F924C-DC8A-495D-86BB-4A3C9546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2B4BB-5B3D-4B22-8B7E-915159CA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0EB9B-954C-4928-8D24-90A7879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CA6A2-52B7-4544-95AE-72D41FE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349E4-7221-42E0-90A6-0D9C04D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0D26E-6838-43B7-ACEB-C180ECF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B5E1F-5EB6-4263-A3C6-E7B4B758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4B6-493B-4954-ACB6-E8260762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99F81-758D-4953-A798-9C47846C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A8F7E-2177-4248-8AEB-0BEB4AE3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8B36E-92FD-4BED-A8FC-E13A2C55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C17B5-B6A7-4032-93B8-B4B7608B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2C96E-C352-42B5-817C-E9BE75CA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DA82B-0469-4129-9182-43FFACEB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B0362-452C-458F-A827-AA89AC8C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6B7BC-0DA9-45EA-A464-AB6EC00C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B1645-7968-46A3-854B-C5840F14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AD284-594D-491C-825F-AD3E8C3F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EEF2-71A6-49C7-8C80-C860F6C1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03AF0-8002-4DC3-B85E-107084BA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887A6-DA71-4DB6-9A5E-AF877AF3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2F18C-E4FC-4A53-B4EE-F9C3225A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01792-48F4-459A-812C-AB3C2C9B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6698F-5EE3-426C-B5FA-C714E676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D59EA-BC97-4385-8C91-C41F46EF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6B700-F6B9-4B6D-9161-D026486E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3A71B-9021-4D6C-AD84-B4B9766B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2A712-DC60-4C20-B8C0-317B26D8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72B87-C248-4B1E-81D2-25B4B54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46F5-7563-4EA4-9799-F91928ED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DD215-59D9-4ACA-A423-DC66994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00E63-F9E1-44C5-9A93-5793B21E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87323-4A6D-4A4E-BB6A-3A1CCCC0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3B1AF-9043-45D7-8019-3B844827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C82A1-B73B-4400-A014-2E36A388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DF666-5FF0-451F-87EA-A9794FF4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301BE-4C12-4DA7-9368-A42E8329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9C7FA-FA48-4FDA-B9E2-4B2255ED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0A96F-762E-440F-8C64-6141CED8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9BEDA-609D-465C-BC1D-2B36FFF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F1DB-D707-4D69-A47A-D8268CE0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047C0-B426-4A86-8C51-19F4AB4B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2FD2F-AC66-47D1-993F-37AFF86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74E43-FA53-4B22-AA62-2031F46F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123AC-099A-4BE3-A79A-07B4B23B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56783-A916-41BA-BC52-9BE281CF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0B27A-2F4A-4F93-A935-96E23D9F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F83CD-3ECA-4516-BB26-CDFFF91E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7D842-1148-4DF4-A80C-C2A9A7CC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442AA-2681-40B3-B6EC-FFF9A41D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A24CC-3CA3-44E3-9FAE-C5893C43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5AAD-46C3-47E9-B9B9-8F70AE8D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20C35-1813-42C7-BBB9-C48F34A4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84445-518C-49A8-9A3D-16693E00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12FF8-1B89-4743-B788-A87A76E0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91824-B133-4C7A-B827-68CAB5B3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AE52F-2310-4860-AD89-10011444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5FF5D-836E-4130-8621-1C772383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EDA84-0F64-4914-982D-E2678A89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B0CAD-901B-4F95-8B4C-B6E5D9DE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A5F25-E706-4187-B64B-2D8ADC75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321A8-E659-4DE3-AB59-2A6773BE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E2BE-31A8-404F-95E4-902046F9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FD9D8-FB8D-47B5-BD72-442419C0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215A6-F664-4FF8-8BF0-E8A4467F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2ACD7-705B-4638-9CB9-ED977B67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58DF0-8BFA-4934-A3B5-A370699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B3D4D-8DB2-4696-AE65-BC031CF9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6665F-F1DD-4B07-9C93-0286260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25E4D-F2F7-4931-80FA-22037C8E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7266E-4EAB-4051-B15B-C9FAD48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B5DDA-301B-4647-A8EE-F486E032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45BF4-C969-49C0-9955-23057EBD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379B-8FEF-43DC-8F15-2C12BCE1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3552C-0A76-47F4-8C38-4A55B6EA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3D297-064F-4CD8-809E-648C2B71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E5D0F-0D54-4181-A0CB-9E5458C7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15F50-D269-4A2D-9B88-2ED6C564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E249B-9717-41FF-837A-2420AE60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049DA-A664-454A-91D7-1262A7BE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A0BB4-41ED-4345-8697-C09A947C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74212-D281-4E6D-BF40-A691907B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464A3-8E2F-4364-A4C0-3D24458F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92C7D-1AD7-4028-85E8-108F69A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9CA0-BF78-49DA-9B41-012C44E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A24EA-387F-4ED9-8FE3-ACBC9FD4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84E21-B03C-403D-8982-A90D1F27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5D2D9-388A-4869-9BF2-598E9BBE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4BCBA-FF3E-4895-BE59-E9818839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AF843-A73D-474B-B03D-AB4E9ADF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CFD68-254C-4160-A759-AD0A5C72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8D1D4-9478-493B-ADF5-A9CD98A1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41CFC-6B6A-4AF5-A20E-B47C3AFA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AE019-41AC-44EC-AA5A-7E8CB62B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72E1F-D9EE-41D9-82B4-D3E3A94E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117-1DBA-4946-9427-BE0946AF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4FD9-3446-46CD-AB93-B6E4F40D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4EF48-9764-4C93-8AC9-FE709A0A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4B3F4-FA05-4F2C-A4B2-28B54026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C21B8-8C53-4428-92B2-B1F370F5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22E34-A4EB-4266-9389-BBE44800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2865F-C175-4469-8FFD-2AD514E1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DD4C6-F224-4726-84A3-C219FCC0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D5A9A-D1EC-42AF-98B4-DFB50553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396512-1917-44C2-9244-D89F3FF1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C9E02-CF14-4BEF-9151-FC94FC3A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1E6B4-15B9-49E8-A7DE-91AF58EC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FA1D-E0BA-459F-9345-1E18233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AABE6-C0EB-49E3-B268-BB75F0AF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B7DAD-E94F-4C00-84C7-038B018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9A1361-B420-4157-BBCF-414A38A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C7EDA-A42D-4B07-A171-C4C673FD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CEE96-9D57-4292-A9C6-008BC036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D70C6-D217-41FA-9F03-86F8489A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DF138-D911-49E4-AC5D-8F075F2C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CFF16-1BA3-4BD6-8969-461DAADA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0D4178-34DA-44B8-A1D6-2FD458EC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B7D3FB-19B9-4124-A9FF-4918C2E8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8B56-6746-4052-8529-D4EF70B8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7817F0-D808-4513-A899-D0A1FC02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38DB4-AF32-4827-9603-AC4D73AC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EB240A-81A4-471B-B234-8F59EF94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B8F6A-C836-485A-B9F9-9D2728E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9CDA9-73CD-4AC2-BDD5-58055014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72011F-2431-4123-BDD1-AEC7882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CC7B8E-FF6B-423C-8F81-B6FCE1DA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7A870-0B3F-4847-9BF0-9C8B1149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C786E-3868-47DC-8225-0C85545D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875D4-12F3-4253-A21B-3ADFAD8D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145B-9C12-4142-AB26-AE5EFE51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5134E4-F142-47FD-A35C-2F91A34B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470097-39E9-4F7D-8ABC-1C474DC7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C676AB-F34A-4DF9-ACD0-EC7BB4F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4CB572-F7ED-4F89-9CBC-7BB8A7A3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F3986-C08D-45B6-96C3-D5D263D3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1ED34-4831-4503-B249-CED3DAD7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D481F5-F61E-4497-8970-6DEF673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82662-9FED-443E-BB8C-F37DA374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7A417-DDB1-4A0D-8BB8-511FFC8C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22AB13-6D80-4109-B5AC-2BAC9F8F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72A6-A942-4334-AA64-7BCF1B12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16B90-D93B-4D1E-AC69-2232F35D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09C9F-52EC-416E-8938-C7FFD0E0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27FFAF-845E-49EE-88DE-9FE819DD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2CCFCE-606D-43BB-A524-FB24A096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5DCC6C-560D-428F-B1C6-7853B048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9060D-05B7-43AB-92A6-20E2DDDA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3FCFF-25C2-4BB9-BD51-A9B4D609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2C25D-2CD3-4621-A649-0EE57F47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DADD1D-644D-4D3B-B511-06D1B51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6A2DC4-E4DB-4BAB-BACB-7665497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3485-9E9E-472D-9BB2-37BBA6AB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FCFF2B-2BD2-4705-979D-E5705669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C85A65-17B7-42BD-81F6-F5D637FF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701F9F-957F-4A4A-A8E3-B1418A50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48D8-E8EC-4F45-94D1-CB29E30E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4A75-51E9-4472-903D-496E71B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7B0C-CB97-4092-B6E3-A9432199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B198C-E029-4C5B-A06C-4FC30790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C3A-5E17-4DA6-9926-448F5FB7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4DA0-5E30-4C87-9838-58CAB713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287A-B6BA-4DA9-8716-DE74C7AB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DD789-AA9C-4C3F-8364-F7C92CB9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9422-946B-4D11-B126-801F494E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8CC8-39C6-490C-8E05-431B0E78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A62F-2E93-442F-8523-C06D0DBC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1F55-0E75-475F-A591-0A39E8C8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97FAF-77A5-4906-8A6F-A0FBD26E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A2E2-D845-4389-84BD-87A2BB5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2D1F-1A82-430C-8668-C05C8B40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4A1-ABDF-40EE-B896-FB23DBF8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D35B-3C8D-4C0A-B5FB-BA055508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6224-EED0-440D-B289-A6E35189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4D13-227C-4193-81BC-5144F836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B2251-E8EF-45A1-B62A-DE1F159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225C-03D3-4EC4-B15F-C0105D22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4EA13-FA23-4A48-819A-F1F673CB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EA14-7F1B-4C62-B152-848A4FEF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2E031-FB4F-4235-881B-E545C2C5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7E20-BBB6-4803-BF46-95D39E8E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CB28B-C3A3-4DD2-A3DE-3757FE86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0AC-1CB0-4D4C-827A-AE7E9517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AB39B-E543-4F13-B770-194C601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C2779-3F06-4B4C-B597-9484A409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B7403-BDF0-47A5-89E7-AABDEDC4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740D-2025-4DBE-9029-A075E549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A0C6A-4354-423C-973D-0583259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3B5F-A7B5-47C3-B7EA-C1ADC5C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E87B3-A133-4D67-857F-19333D2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A564-8DED-4500-A8BB-5A74A963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6A1E-E4E0-48B1-A00A-4F96F180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EA90-0F86-43B4-B8DD-F2E8713E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7E7-D269-4861-8A59-92F2B75A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F927E-F414-4AB7-B971-0E62C007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0A2D-610C-4CBB-AAB1-8980D4D6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D649-CAF0-4AFC-B56C-57708AFF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241E5-5320-4498-B632-EB1DEB56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36EBB-9D72-47FC-AC4C-37226A1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C23DB-9F86-43B8-8871-59BAA5CE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C288E-3879-4067-B241-6CB7200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C4A85-D01C-4E2A-9224-09B1D0A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38F06-C464-4296-B4A5-2F8E11E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14ECC-3F60-4789-8099-D2E4972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D75-A099-4873-87E1-3E97001D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0FC48-64BB-4446-B2D2-FB62AA55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C513-15A8-4B53-B618-F1339F28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EE8AF-1A87-46F8-B75F-EED02828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696E-2DD3-4BB4-9E38-5B802CB8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34A33-57C8-41AF-A295-C77F4BE2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949A2-AC0B-4F8B-860C-2845CBB7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A06F6-CADB-435D-9AFE-E14F5D69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62052-5FB9-4220-86E5-8DEB3E66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BC330-0632-435B-9D58-FC6D7A5C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5E20A-F8E4-41B8-B736-83FEA10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A8C-C7A7-4FF7-9D41-65AB6A0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0444A-1D01-4001-8CF2-9F247E4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E3DAE-A7C9-4105-9269-02E14F2D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0274-9407-404A-BF2E-9A369FF7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522E8-A10A-4F39-BE9F-A169ADCF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AADC2-30DF-4426-AFCD-2750885D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7978F-B015-4971-ACED-8001E711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96BA2-F7DF-4CBA-81BF-16D5AD62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B9417-1289-4D72-970D-C4C021D6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F6C6-58A3-4E6C-8D96-CD39E276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385BC-3721-4D9E-8FA1-0A644043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9F5-47BD-470A-932E-3B6D9182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20771-2C5F-48D1-AAF8-D469213B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5AFE-81A9-4C20-8440-8E4D51DF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25DEC-6603-4EA7-BA01-FB5843B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A6922-86B3-46EE-98B7-AD35C3CE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700C8-7B56-4F10-A4A2-6EB39C61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F938C-68E2-4B31-92A9-9D9BC7C4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40A3C-21C6-4ADC-AD3B-FF5449FD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093CA-01E6-4261-BD60-47758267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8C99A-941C-4ABF-A8BE-045C81E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3758A-FB4F-40BE-ABB2-A927ECF0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8E0E-3EBE-46D6-8746-D68D5851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688C-1412-448A-B336-41153293F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8AF4-6EC1-44D8-AFB4-824ADC8D09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451C-2E24-4BC8-ABEB-2EC222D1A1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CBDD-2405-4E13-B3E0-5EBFAA395F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5E19-2BCA-4778-AD2A-788976B70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1B07-D9C4-44D1-B16B-5D090DC8D5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63A-3DB5-48C4-B482-1D5C34456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FF73-27D0-412C-836B-E269A03034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81F5-B3A9-48E8-A602-548BEDD9F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B5B9-F9EE-4C90-ABFC-4E8034F1EB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1C9-65FC-40DE-A608-F8845FDBCD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F89D-42DF-4D4E-B435-9378171E5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A216-6371-4569-A86D-EFDB7D52F7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71E9-A3B2-4925-8F99-68FC0A70FA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4E14-9837-44B6-8D1B-DAF1275180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8A9C-5760-473C-BDF0-206E70C20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A77D-8554-48C9-8CE0-1B66EE8EA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2545-C1DA-4198-BD0C-E8752BBC3C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37F-348B-4464-8F33-F86FD93A4E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52E6-F16F-42E2-9E4B-AC163B6145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11D4-8AC6-4F8B-B6D4-A238ACAF5D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CA61-1FD7-459F-83EA-A7FE09B9D5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AC5F-8707-4B40-A430-9D34787210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DA37-642C-4AAD-943B-9635CD86E3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0115-9D9E-4947-8CE5-DD4925E35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2C85-5A78-4D6D-B3ED-C9007B69B3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7703-BC1D-4859-B37D-042994964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2FA3-C42A-4D69-8877-D80959B72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FFE5-1002-42D3-A676-4A90BEEB95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1C12-7209-4674-9568-19ABD0319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E9B-0B79-42D0-9E28-DE23802B7F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5E8D-3FB6-4C68-A919-B5D796BD0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7362-A622-44C6-9ADE-A8BCA96AE6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141-B9E2-459C-A6D0-1ED34579D4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E129-65F4-46F3-AA1E-9E666188A4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AEE0-0E7C-45BB-B698-3133D6F11B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8DC1-3D78-42F7-878D-6338353376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0F4D-F019-4F56-82F0-EFE1239BC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CF5E-6919-4919-91ED-ECC371FDF2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50421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99880" y="1461960"/>
            <a:ext cx="8544240" cy="3934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571840" y="257184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786280" y="2571840"/>
            <a:ext cx="85752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2286000" y="290988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286680" y="2921040"/>
            <a:ext cx="1214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2500200" y="3286080"/>
            <a:ext cx="85752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6572160" y="3267000"/>
            <a:ext cx="857520" cy="293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1714680" y="363528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7143840" y="3621240"/>
            <a:ext cx="857160" cy="293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2643120" y="4000680"/>
            <a:ext cx="857160" cy="29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6929280" y="3973680"/>
            <a:ext cx="857520" cy="293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12"/>
          <a:stretch/>
        </p:blipFill>
        <p:spPr>
          <a:xfrm>
            <a:off x="2286000" y="504504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13"/>
          <a:stretch/>
        </p:blipFill>
        <p:spPr>
          <a:xfrm>
            <a:off x="5214960" y="5045040"/>
            <a:ext cx="85716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14"/>
          <a:stretch/>
        </p:blipFill>
        <p:spPr>
          <a:xfrm>
            <a:off x="7786800" y="5045040"/>
            <a:ext cx="8571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4:2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